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EBA6-9C6D-40DE-9F46-541648A7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28CB-D959-4283-BEDE-6099D00A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41E2-FD23-4A1E-8CD9-2562F00A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636D-EBCB-45D9-8EA0-6E196D20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6311-B6B9-4307-A06F-FB6B0B0B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1F38-3541-4C2E-834E-78A9B908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F111-2434-4029-B03E-1147DEE3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BB5C-EDF7-412B-AAB6-F339B98F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F601-0616-48A6-9CAC-13A3D97D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C473-29FC-408D-9133-9439DB72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096C-7AFF-4536-8CCA-D82DFA74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5758-522D-444C-9845-89FF3AA7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4776-7A7C-4BB9-BBD4-5645C1C9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A558-1E57-4497-A9FB-C0995D3B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C66C-E803-4CC8-9722-FB1F9A11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CA05-3217-40A3-9F1B-781BF1D2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E124-7625-45B0-8472-725B88AC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F074-F425-4880-BE08-54356654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60D4-876A-4DA1-B943-44608523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AC9A-2A16-43B9-8387-E18CCA68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F866-BF3A-45C2-B308-1BBF17D4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788F-2132-4815-9B7A-0C17E7DE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0D7A-878C-45A6-BD33-CC25B083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1591-BD80-4C36-89D4-03004FE9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1F23-915C-4B8D-8EEF-7ED6156CC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A1E0-547F-47CD-BA0A-BBA8424E6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natutorial.com/ProteinSynthesis.shtml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ncc.gmu.edu/dna/mRNAanim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Baskerville Old Face"/>
              </a:rPr>
              <a:t>TRANSLATIO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mino acids carried by tRNA form proteins (the sequence depends on the message carri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nslation is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Terminat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odon turns off Protein synth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e pg 303 Fig.12-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ven though there are only 20 amino acids that exist, there are actually 64 possible tRNA molec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4 X 4 X 4 = 64 possible 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nslation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47900"/>
                </a:solidFill>
                <a:uFillTx/>
                <a:latin typeface="Arial"/>
                <a:hlinkClick r:id="rId2"/>
              </a:rPr>
              <a:t>http://www.dnatutorial.com/ProteinSynthesis.s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DNA – Its Role in Prote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5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Provides directions for the construction of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Chromosome consis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Book Antiqua"/>
              </a:rPr>
              <a:t>deoxyribose sugar backb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Book Antiqua"/>
              </a:rPr>
              <a:t>phosphate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Book Antiqua"/>
              </a:rPr>
              <a:t>4 nitrogenous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Proteins can be composed of 20 different amino acids. One nitrogen base cannot code for a single 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7854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20 amino acids can be accommodated by a triplet code (Three-base code aka “codon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RNA and DNA are similar, except f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Uracil = Thymine, the sugar ribose, and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Book Antiqua"/>
              </a:rPr>
              <a:t>RNA – 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controls assembly of amino acids into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Book Antiqua"/>
              </a:rPr>
              <a:t>(See pg 300 Fig. 12-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Book Antiqua"/>
              </a:rPr>
              <a:t>Messenger RNA or mRNA = 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carrier molecule, reads the DNA code and carries it to the rib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Book Antiqua"/>
              </a:rPr>
              <a:t>Ribosomal RNA 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combines with proteins to form rib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Book Antiqua"/>
              </a:rPr>
              <a:t>Transfer RNA 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transfers each amino acid to the ribosome as it is specified by coded messages in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ypes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 u="sng">
                <a:solidFill>
                  <a:srgbClr val="000000"/>
                </a:solidFill>
                <a:uFillTx/>
                <a:latin typeface="Book Antiqua"/>
              </a:rPr>
              <a:t>Primers</a:t>
            </a:r>
            <a:r>
              <a:rPr b="1" lang="en-CA" sz="3600" spc="-1" strike="noStrike">
                <a:solidFill>
                  <a:srgbClr val="000000"/>
                </a:solidFill>
                <a:latin typeface="Book Antiqua"/>
              </a:rPr>
              <a:t> (aka Promot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Book Antiqua"/>
              </a:rPr>
              <a:t>Initiators</a:t>
            </a:r>
            <a:r>
              <a:rPr b="0" i="1" lang="en-CA" sz="32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turn protein synthesis on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Book Antiqua"/>
              </a:rPr>
              <a:t>Terminators</a:t>
            </a:r>
            <a:r>
              <a:rPr b="0" i="1" lang="en-CA" sz="32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“end protein synthes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DNA molecule “unzips” – by RNA poly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mRNA finds the appropriate p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cytosine = 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adenine = ura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Once the pairs are joined mRNA moves a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two original DNA strands rejo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–  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transcription has been complete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Baskerville Old Face"/>
              </a:rPr>
              <a:t>TRANSCRIPTIO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RNA carries the nitrogen base code to the ribosomes and attaches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nscription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47900"/>
                </a:solidFill>
                <a:uFillTx/>
                <a:latin typeface="Arial"/>
                <a:hlinkClick r:id="rId3"/>
              </a:rPr>
              <a:t>http://www.ncc.gmu.edu/dna/mRNAanim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Baskerville Old Face"/>
              </a:rPr>
              <a:t>TRANSLATION</a:t>
            </a:r>
            <a:br>
              <a:rPr sz="4400"/>
            </a:br>
            <a:r>
              <a:rPr b="1" lang="en-CA" sz="2800" spc="-1" strike="noStrike">
                <a:solidFill>
                  <a:srgbClr val="000000"/>
                </a:solidFill>
                <a:latin typeface="Baskerville Old Face"/>
              </a:rPr>
              <a:t>See Fig. 12-18 in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Initiator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don (AUG) – turns protein synthesis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NA (transfer) picks up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tRNA has a specific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nticod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(exposed nitrogen bases) –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plimentary to one mRNA co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Baskerville Old Face"/>
              </a:rPr>
              <a:t>TRANSLATIO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RNA will attach to tRNA where the codon and anticodon base pairs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e;  UUU codon of DNA receives an AAA anticodon of t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NA will place its amino acid in the ribosome and mov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RNA moves along the ribosome and the process known as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longati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contin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23:25:42Z</dcterms:created>
  <dc:creator>MattJodi</dc:creator>
  <dc:description/>
  <dc:language>en-US</dc:language>
  <cp:lastModifiedBy>Justin</cp:lastModifiedBy>
  <dcterms:modified xsi:type="dcterms:W3CDTF">2008-04-14T01:12:52Z</dcterms:modified>
  <cp:revision>16</cp:revision>
  <dc:subject/>
  <dc:title>Protein Synthesis</dc:title>
</cp:coreProperties>
</file>